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.png" ContentType="image/png"/>
  <Override PartName="/ppt/media/image19.jpeg" ContentType="image/jpeg"/>
  <Override PartName="/ppt/media/image11.png" ContentType="image/png"/>
  <Override PartName="/ppt/media/image12.jpeg" ContentType="image/jpeg"/>
  <Override PartName="/ppt/media/image6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D79-64B3-4D11-8C72-B4B8FD7C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8E8-8073-4E15-BA4F-D3A8605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8DB-8189-4DE5-A552-D440FEA8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BFB-5472-40A8-B745-6B8DB150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255F-466F-4FF6-B85C-C43E1601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B6CD-A6CE-4D84-B9A7-7CAEE63D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9AC2-D7A0-456E-B853-41B3CAA3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C607-F06B-4EDA-923D-F1A6A739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F9EA-88B4-4AD5-8920-427FEEED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240" y="577440"/>
            <a:ext cx="863748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0FBB-DA5D-48CC-83FE-D7B56D73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CFE9-C9B3-44C0-9BE4-D26D76E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639-71C8-4205-AFB5-D7A1845C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E451-4C01-47B3-8064-DC5674A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3DEA-E165-42EF-A8E7-ECB70E3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FF7D-FE17-4F3F-9156-D05A4AD2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986D-D627-4316-B534-C533D1C2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1534-AE85-4636-B5A8-AC6E7B2E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0E4-F7C8-45B8-801C-BB4F49C6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3EC-4C58-4CC3-AAF3-58F7737A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777-F83E-424C-9C52-8A663D95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240" y="577440"/>
            <a:ext cx="8637480" cy="49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28F-7192-4A48-83F6-F91E922F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4A2-96A1-4924-8252-9EA4AEC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BF1-31F6-4E62-8FBD-1BED3540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063-EF30-4843-BFA1-8E29963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57744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隶书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1146240" indent="-285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565280" indent="-228600">
              <a:spcBef>
                <a:spcPts val="6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3" marL="1984320" indent="-228600">
              <a:spcBef>
                <a:spcPts val="6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4" marL="2403360" indent="-2286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5" marL="2403360" indent="-22860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lvl="6" marL="2403360" indent="-22860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D37F-CE92-4F04-9305-0CD408D24A19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if053" descr=""/>
          <p:cNvPicPr/>
          <p:nvPr/>
        </p:nvPicPr>
        <p:blipFill>
          <a:blip r:embed="rId3"/>
          <a:stretch/>
        </p:blipFill>
        <p:spPr>
          <a:xfrm>
            <a:off x="76320" y="617220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955960" y="2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ffcc00"/>
                </a:solidFill>
                <a:latin typeface="宋体"/>
              </a:rPr>
              <a:t>章  服务器管理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" name="gif022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9" name="line1" descr=""/>
          <p:cNvPicPr/>
          <p:nvPr/>
        </p:nvPicPr>
        <p:blipFill>
          <a:blip r:embed="rId5"/>
          <a:stretch/>
        </p:blipFill>
        <p:spPr>
          <a:xfrm>
            <a:off x="0" y="22860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0" name="">
            <a:hlinkClick r:id="" action="ppaction://hlinkshowjump?jump=previousslide"/>
          </p:cNvPr>
          <p:cNvSpPr/>
          <p:nvPr/>
        </p:nvSpPr>
        <p:spPr>
          <a:xfrm>
            <a:off x="8229600" y="3352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上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>
            <a:hlinkClick r:id="" action="ppaction://hlinkshowjump?jump=firstslide"/>
          </p:cNvPr>
          <p:cNvSpPr/>
          <p:nvPr/>
        </p:nvSpPr>
        <p:spPr>
          <a:xfrm>
            <a:off x="6248520" y="5562720"/>
            <a:ext cx="152388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返回首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>
            <a:hlinkClick r:id="" action="ppaction://hlinkshowjump?jump=nextslide"/>
          </p:cNvPr>
          <p:cNvSpPr/>
          <p:nvPr/>
        </p:nvSpPr>
        <p:spPr>
          <a:xfrm>
            <a:off x="8001000" y="487692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下一页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50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隶书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CDCC-8648-4B4B-9855-ED6239D2AE82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14120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第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章   服务器管理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5843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1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创建服务器组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</a:rPr>
              <a:t>3.2   服务器注册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3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启动、暂停和停止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4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连接与断开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3.5   </a:t>
            </a:r>
            <a:r>
              <a:rPr b="1" lang="zh-CN" sz="28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</a:rPr>
              <a:t>服务器配置选项设置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29600" y="3352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上一章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5562720"/>
            <a:ext cx="152388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返回目录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004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2.5" descr=""/>
          <p:cNvPicPr/>
          <p:nvPr/>
        </p:nvPicPr>
        <p:blipFill>
          <a:blip r:embed="rId2">
            <a:grayscl/>
            <a:lum bright="-6000"/>
          </a:blip>
          <a:stretch/>
        </p:blipFill>
        <p:spPr>
          <a:xfrm>
            <a:off x="1905120" y="1371600"/>
            <a:ext cx="4971960" cy="3648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43480" y="523728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5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选择或创建服务器名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960" y="1676520"/>
            <a:ext cx="675792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单击“下一步”按钮，出现选择身份验证模式对话框，即选择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或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可以使用户只需维护、使用一个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和口令，而使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身份验证，则必须维护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Windows NT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登录帐户及口令。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6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和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9576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2.6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5334120" cy="3917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975760" y="53132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6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选择身份验证模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576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2.7" descr=""/>
          <p:cNvPicPr/>
          <p:nvPr/>
        </p:nvPicPr>
        <p:blipFill>
          <a:blip r:embed="rId2"/>
          <a:srcRect l="0" t="0" r="-2130" b="1450"/>
          <a:stretch/>
        </p:blipFill>
        <p:spPr>
          <a:xfrm>
            <a:off x="1295280" y="1219320"/>
            <a:ext cx="5396040" cy="379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54760" y="5237280"/>
            <a:ext cx="52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7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输入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登录名和口令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8680" y="121932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4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单击“下一步”按钮，就会出现选择服务器组或创建服务器组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8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24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2.8" descr=""/>
          <p:cNvPicPr/>
          <p:nvPr/>
        </p:nvPicPr>
        <p:blipFill>
          <a:blip r:embed="rId2"/>
          <a:srcRect l="0" t="0" r="0" b="2700"/>
          <a:stretch/>
        </p:blipFill>
        <p:spPr>
          <a:xfrm>
            <a:off x="2057400" y="2286000"/>
            <a:ext cx="4191120" cy="2895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68240" y="5442120"/>
            <a:ext cx="33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3-8   </a:t>
            </a:r>
            <a:r>
              <a:rPr b="1" lang="zh-CN" sz="2000" spc="-1" strike="noStrike">
                <a:solidFill>
                  <a:srgbClr val="ffffcc"/>
                </a:solidFill>
                <a:latin typeface="隶书"/>
                <a:ea typeface="隶书"/>
              </a:rPr>
              <a:t>选择服务器组或创建服务器组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20908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5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器组确定后，单击“下一步”按钮，就会出现确定注册对话框，单击“完成”按钮，则企业管理器将注册服务器，如下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9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2428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2.9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209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6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接着出现注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消息对话框，注册成功后，按“关闭”按钮结束设置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6692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2.10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3962520" cy="2874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31240" y="2657160"/>
            <a:ext cx="109512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3-1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注册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SQL Server</a:t>
            </a:r>
            <a:r>
              <a:rPr b="1" lang="zh-CN" sz="2000" spc="-1" strike="noStrike">
                <a:solidFill>
                  <a:srgbClr val="ffffcc"/>
                </a:solidFill>
                <a:latin typeface="Times New Roman"/>
              </a:rPr>
              <a:t>消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3698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3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启动、暂停和停止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20908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启动服务器，下面介绍常用的三种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方法：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自动启动服务器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管理器启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用企业管理器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Enterprise Manag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启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暂停和关闭服务器的方法与启动服务器的方法类似，只需在相应的窗口中选择“暂停（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Pause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”或“停止（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top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）”选项即可。为了保险起见，我们通常会在停止运行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之前先暂停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。其主要原因在于，一旦暂停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，将不再允许任何新的上线者，然而原先已联机到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的用户仍然能继续作业，这样可以确保原来正在进行中的作业不会中断，而可以持续进行并加以完成。</a:t>
            </a: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97800" y="990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隶书"/>
              </a:rPr>
              <a:t>暂停和关闭服务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4120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4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连接与断开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736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一、服务器连接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企业管理器的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组中用左键单击所要连接的服务器，或者用右键单击所要连接的服务器，从快捷菜单中选择“连接”选项，即可连接。如果在注册服务器时选择了在连接时提示输入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SQL Server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帐户信息选项（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3-7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），此时则会提示输入这些信息，如图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3-12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6160" y="1064880"/>
            <a:ext cx="6732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.1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创建服务器组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在一个网络系统中，可能有多个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服务器，可以对这些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服务器进行分组管理。分组的原则往往是依据组织结构原则。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分组管理由企业管理器（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Enterprise Manag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）来进行。首次启动企业管理器时，有一个名字叫“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”的默认服务器组自动被创建，但用户可以创建新的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，在企业管理器菜单中单击操作（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Action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）菜单或者用右键单击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s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，选择新建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SQL Server 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组菜单项，如图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3-1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接着出现服务器组对话框，如图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3-2</a:t>
            </a:r>
            <a:r>
              <a:rPr b="1" lang="zh-CN" sz="2200" spc="-1" strike="noStrike">
                <a:solidFill>
                  <a:srgbClr val="ffffcc"/>
                </a:solidFill>
                <a:latin typeface="Times New Roman"/>
              </a:rPr>
              <a:t>所示，输入组的名称并选择组的级别，单击确定即可。</a:t>
            </a:r>
            <a:r>
              <a:rPr b="1" lang="zh-CN" sz="2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386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2.1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828800" y="1371600"/>
            <a:ext cx="5105520" cy="3448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32880" y="5035680"/>
            <a:ext cx="59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3-12   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连接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时的输入登录名和口令窗口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1064880"/>
            <a:ext cx="86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5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配置选项设置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4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使用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企业管理器配置服务器的操作方法为：在企业管理器的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组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Group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中用右键单击所要进行配置的服务器，从快捷菜单中选择“属性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Properties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”选项，就会出现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1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的对话框，其中可以进行服务器的属性（配置选项）的设置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719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2.13" descr=""/>
          <p:cNvPicPr/>
          <p:nvPr/>
        </p:nvPicPr>
        <p:blipFill>
          <a:blip r:embed="rId2">
            <a:grayscl/>
            <a:lum contrast="6000"/>
          </a:blip>
          <a:stretch/>
        </p:blipFill>
        <p:spPr>
          <a:xfrm>
            <a:off x="2666880" y="1523880"/>
            <a:ext cx="3141720" cy="3505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08360" y="5257800"/>
            <a:ext cx="349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3-13   </a:t>
            </a:r>
            <a:r>
              <a:rPr b="1" lang="zh-CN" sz="2200" spc="-1" strike="noStrike">
                <a:solidFill>
                  <a:srgbClr val="ffffcc"/>
                </a:solidFill>
                <a:latin typeface="隶书"/>
                <a:ea typeface="隶书"/>
              </a:rPr>
              <a:t>服务器属性设置对话框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9144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computer8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2133720" cy="170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75920" y="164700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谢谢您的光临！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876920"/>
            <a:ext cx="1143000" cy="9144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200"/>
                </a:solidFill>
                <a:latin typeface="Times New Roman"/>
                <a:ea typeface="华文行楷"/>
              </a:rPr>
              <a:t>下一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4324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2-1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72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29000" y="52372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1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新建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SQL Server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623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2.2" descr=""/>
          <p:cNvPicPr/>
          <p:nvPr/>
        </p:nvPicPr>
        <p:blipFill>
          <a:blip r:embed="rId2"/>
          <a:stretch/>
        </p:blipFill>
        <p:spPr>
          <a:xfrm>
            <a:off x="2438280" y="1219320"/>
            <a:ext cx="4496040" cy="369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89240" y="508464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2   </a:t>
            </a:r>
            <a:r>
              <a:rPr b="0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创建服务器组对话框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1369800"/>
            <a:ext cx="693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3.2  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服务器注册</a:t>
            </a:r>
            <a:r>
              <a:rPr b="1" lang="zh-CN" sz="3200" spc="-1" strike="noStrike">
                <a:solidFill>
                  <a:srgbClr val="ffcc00"/>
                </a:solidFill>
                <a:latin typeface="隶书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6834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谓服务器注册是指将网络系统中的其它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服务器注册到企业管理器中，以便于管理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6520" y="1141200"/>
            <a:ext cx="703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注册过程</a:t>
            </a: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75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企业管理器中，从操作（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Action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）菜单中选择新建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注册，或从工具菜单中选择注册服务器向导选项，或从工具栏中选择图标       ，就会出现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3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的注册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SQL Server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向导对话框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如果在对话框中选择“我希望今后在执行该任务时不使用向导”复选框，按“下一步”按钮就会转换到服务器注册属性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4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2.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38080" y="3200400"/>
            <a:ext cx="336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308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2.5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4800600" cy="3679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91200" y="525780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3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注册服务器向导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cc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3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2.4" descr=""/>
          <p:cNvPicPr/>
          <p:nvPr/>
        </p:nvPicPr>
        <p:blipFill>
          <a:blip r:embed="rId2">
            <a:grayscl/>
            <a:lum bright="6000"/>
          </a:blip>
          <a:stretch/>
        </p:blipFill>
        <p:spPr>
          <a:xfrm>
            <a:off x="2514600" y="1295280"/>
            <a:ext cx="3610080" cy="373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77760" y="5181480"/>
            <a:ext cx="36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图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3-4   </a:t>
            </a:r>
            <a:r>
              <a:rPr b="1" lang="zh-CN" sz="2400" spc="-1" strike="noStrike">
                <a:solidFill>
                  <a:srgbClr val="ffffcc"/>
                </a:solidFill>
                <a:latin typeface="隶书"/>
                <a:ea typeface="隶书"/>
              </a:rPr>
              <a:t>服务器注册属性对话框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在注册服务器向导对话框中不选择复选框，单击“下一步”按钮，就会出现选择或创建服务器名称对话框，如图</a:t>
            </a:r>
            <a:r>
              <a:rPr b="1" lang="zh-CN" sz="2600" spc="-1" strike="noStrike">
                <a:solidFill>
                  <a:srgbClr val="ffffcc"/>
                </a:solidFill>
                <a:latin typeface="Arial"/>
              </a:rPr>
              <a:t>3-5</a:t>
            </a:r>
            <a:r>
              <a:rPr b="1" lang="zh-CN" sz="2600" spc="-1" strike="noStrike">
                <a:solidFill>
                  <a:srgbClr val="ffffcc"/>
                </a:solidFill>
                <a:latin typeface="Times New Roman"/>
              </a:rPr>
              <a:t>所示。</a:t>
            </a:r>
            <a:endParaRPr b="1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7T01:24:17Z</dcterms:created>
  <dc:creator>haier</dc:creator>
  <dc:description/>
  <dc:language>en-US</dc:language>
  <cp:lastModifiedBy>lcb</cp:lastModifiedBy>
  <dcterms:modified xsi:type="dcterms:W3CDTF">2001-08-19T08:25:08Z</dcterms:modified>
  <cp:revision>30</cp:revision>
  <dc:subject/>
  <dc:title>第3章   服务器管理 </dc:title>
</cp:coreProperties>
</file>